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7F75-24B8-46A6-969F-AD75E9EC8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73CE-5F0F-4D91-854D-D2BA4A7BC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F7E9-93BB-43F4-8BD1-51B4DF93D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DB32-2FBE-4B1C-ABB8-ECD630917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F796-8F20-4C57-9438-3986933C65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61DF-8D68-45F2-9F07-073645AE6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D5A-B1B7-41FF-8734-9C3C66E8C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A646-740E-41EF-8974-7336C896F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805F-4AF0-4829-9EB2-9439C85EF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213F-2E9E-42DC-A812-7BE00B7D66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75BB-2853-4B22-80B6-C0DE7F4DA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C80F-5A64-416A-A0D8-F14BF0BF6A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5F3A-2428-4E4C-9A45-122332BE1D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C6C2-BB43-4098-8E4D-99CD7946F4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DC2B-772E-4ACA-9859-0E658D754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3C2E-8F23-493C-9AEF-5B4E220A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DC07-E648-4D01-8569-A11AA19D1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49E-60E9-4B6D-B04A-5980FE34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1D2D-8EF0-42D2-8D19-67110B367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85EB-CC0F-4C83-A233-14C9DC08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0FDF-B6F8-47F2-A47C-A67F57E5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5949-9257-4856-9AFD-68E43831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093E-4DF1-4B3E-BEAC-E212F4DA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61B2-42F2-454C-A705-03D9BF70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D8FD-2092-4F07-8EAC-233FF95A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E4B8-3FE3-4834-9DBB-B064C62D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90D0-A7F7-454D-8581-CDE1F220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B5BEC-AF74-41B9-9E0A-A643194E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2A89-59EE-4281-8E95-C41F4B99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5489-F205-4311-8DD1-D812A2CB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07A3-A6B8-4573-B1A5-116F2A2F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A307A-791E-44E3-A6E4-FE39217C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A3C0-7630-4ABF-AE54-53DB6304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8E702-7A05-4E86-B6EA-883550E0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8EB56-A739-448F-9BEE-A770C254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5BB4-3B2E-4350-88CB-B9FDC984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3C2-2A63-4B7A-A90C-A13D43E9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E44F-1553-4EAE-9122-82379110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E0EE-3BFC-42B6-80D8-C66D1163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B6E48-DDDE-4048-9CFC-50A29984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AD9F8-C7CB-4A87-82F2-5CF964510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DA28F-C942-436E-A909-825DA9D2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8B15-5849-45FA-B39A-2FBB85DD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00B1B-E236-47C7-BB27-551ACFA8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DDF3C-6ECD-42C0-93B3-BDC9E829B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FD564-B51B-4E28-8562-C4E7154B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26449-4D5E-416F-8F83-82D368CB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E6AE-3156-4EF6-AA0C-F5F2763E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47C15-1C8D-4DE7-A6E6-DD4B9849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40BC0-09D0-4C7E-B65E-7434B1F9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8DAD6-64D2-4A7F-8EBD-82A1B6EB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D303-0990-4531-ADC2-0BD4AD8A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6384-C0E8-4254-AC59-04173182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F86AD-9445-4783-9AAE-22D217C1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14FAF-25E1-4125-8ADE-71ECDA6A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EE264-3359-4A8C-AD72-838601F78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783B5-70F2-4AD3-8EF2-1770E153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A8D-2555-4375-8DB1-5356A3C3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064-ECB3-41AC-9009-7917D002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3C9-DE4A-47A3-AF26-BC34447C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AEDC-FFCD-4FDE-811C-B7B4920E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9E24-9B85-465B-B5CB-BD2726E4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E014-7DE7-4DEA-BBF0-BC3168DADDB5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0867-7A4D-49B5-8488-CB78AB561F9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438D-7A99-4065-95AB-1422DDE671DA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2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5DD76-6CDF-4BB5-8EA3-210FF635736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1600200" y="137160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rebuchet MS"/>
              </a:rPr>
              <a:t>Renewable Biofuels</a:t>
            </a:r>
            <a:endParaRPr b="0" lang="en-US" sz="7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http://static.guim.co.uk/sys-images/Guardian/Pix/maps_and_graphs/2010/01/22/USGrainBiofuel.gif"/>
          <p:cNvPicPr/>
          <p:nvPr/>
        </p:nvPicPr>
        <p:blipFill>
          <a:blip r:embed="rId1"/>
          <a:stretch/>
        </p:blipFill>
        <p:spPr>
          <a:xfrm>
            <a:off x="228600" y="171360"/>
            <a:ext cx="77724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http://t1.gstatic.com/images?q=tbn:ANd9GcSffdwPnwYItMrsn7LrW7SQZZDr2_X_DqsfDh-3ceZ6ldevdkzfLg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rebuchet MS"/>
              </a:rPr>
              <a:t>What is Senator Warden’s Problem?</a:t>
            </a:r>
            <a:endParaRPr b="1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www.sailhome.org/Concerns/BodyBurden/Sources3/CornSyrup_files/Corn_USDA_map.png"/>
          <p:cNvPicPr/>
          <p:nvPr/>
        </p:nvPicPr>
        <p:blipFill>
          <a:blip r:embed="rId1"/>
          <a:stretch/>
        </p:blipFill>
        <p:spPr>
          <a:xfrm>
            <a:off x="457200" y="228600"/>
            <a:ext cx="86504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9" name="Picture 2" descr="http://www.farmpolicy.com/wp-content/uploads/2007/09/ethanol_map.jpg"/>
          <p:cNvPicPr/>
          <p:nvPr/>
        </p:nvPicPr>
        <p:blipFill>
          <a:blip r:embed="rId1"/>
          <a:stretch/>
        </p:blipFill>
        <p:spPr>
          <a:xfrm>
            <a:off x="304920" y="304920"/>
            <a:ext cx="73911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http://sdcorn.org/documents/charts/thumb_US-Corn-Use-for-Ethanol-2010.jpg"/>
          <p:cNvPicPr/>
          <p:nvPr/>
        </p:nvPicPr>
        <p:blipFill>
          <a:blip r:embed="rId1"/>
          <a:stretch/>
        </p:blipFill>
        <p:spPr>
          <a:xfrm>
            <a:off x="0" y="0"/>
            <a:ext cx="862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http://lmi.ides.state.il.us/lmr/jun09/chart2_3.jpg"/>
          <p:cNvPicPr/>
          <p:nvPr/>
        </p:nvPicPr>
        <p:blipFill>
          <a:blip r:embed="rId1"/>
          <a:stretch/>
        </p:blipFill>
        <p:spPr>
          <a:xfrm>
            <a:off x="0" y="457200"/>
            <a:ext cx="90108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4" descr="http://www.weeklytimesnow.com.au/images/uploadedfiles/editorial/pictures/2010/10/19/grain-map-642.jpg"/>
          <p:cNvPicPr/>
          <p:nvPr/>
        </p:nvPicPr>
        <p:blipFill>
          <a:blip r:embed="rId1"/>
          <a:stretch/>
        </p:blipFill>
        <p:spPr>
          <a:xfrm>
            <a:off x="304920" y="304920"/>
            <a:ext cx="784836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06:39:43Z</dcterms:created>
  <dc:creator>Teri Osborne</dc:creator>
  <dc:description/>
  <dc:language>en-US</dc:language>
  <cp:lastModifiedBy>Teri Osborne</cp:lastModifiedBy>
  <dcterms:modified xsi:type="dcterms:W3CDTF">2012-01-13T03:35:52Z</dcterms:modified>
  <cp:revision>14</cp:revision>
  <dc:subject/>
  <dc:title>Renewable  fuels</dc:title>
</cp:coreProperties>
</file>